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5DA-386F-4D83-A3E0-68E9BABD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E57-056D-49D4-B0AC-7714280B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A80-B6D2-4F14-ACA3-2667D0B4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1F7-B854-42EA-9BB7-08EDBE3F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DD6-EAB1-4C64-8145-184984D0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714-4510-4A36-8F75-A35CFB33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244-165E-4326-B04B-46A2E201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7D0-90F3-4E72-9BD5-10E2D609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592-106B-4CB0-B05D-6211EDCB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936-9D01-4D70-8E88-A3C1F504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07E-76EB-4BD4-8621-CCAC7D28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B20-009B-4607-B4FE-CAA178E5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3225-A84F-4AF4-81C5-D2F2D1FB1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mailto:Mamie@StacyBolton.com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923000"/>
            <a:ext cx="3657600" cy="1685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6705720"/>
            <a:ext cx="2486160" cy="1947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8775720"/>
            <a:ext cx="685800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tion inform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clockwise from top left: Anna Atkins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oa aquatica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53/1854, courtesy Hans P. Kraus, Jr. Inc., NY; Loretta Lux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Janan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4, courtesy Yossi Milo Gallery, NY; Malekeh Nayiny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y aunts Touran and Ir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2000, courtesy Silk Road Gallery, Tehran; Andreas Schmidt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Untitled, 1 800 634 6575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0, courtesy Scout Gallery, London; Tina Barney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thers and Sons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courtesy Janet Borden Inc., NY; Lillian Bassman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argie Cato, Jr., Bazaa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947, courtesy Staley+Wise Gallery, NY; Luc Delahaye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Jenin Refugee Cam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2002, courtesy Ricco/Maresca NY; Joseph Szabo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iscill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 1969, courtesy Gitterman Gallery, NY. Additional images are availabl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 Contac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Stacy Bolton Communications, 212.721.5350 or email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mie@StacyBolton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62520" y="169920"/>
            <a:ext cx="2743200" cy="1963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930480" y="2265480"/>
            <a:ext cx="2775240" cy="43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81080" y="2360520"/>
            <a:ext cx="3628800" cy="244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343400" y="6705720"/>
            <a:ext cx="2376360" cy="193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5160" y="6705720"/>
            <a:ext cx="1604880" cy="19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rcRect l="2793" t="2000" r="2793" b="2000"/>
          <a:stretch/>
        </p:blipFill>
        <p:spPr>
          <a:xfrm>
            <a:off x="2401920" y="195120"/>
            <a:ext cx="1441440" cy="2048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144792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vember 11 – 14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rousel du Louv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28600" y="228600"/>
            <a:ext cx="13176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47:52Z</dcterms:created>
  <dc:creator> Mamie</dc:creator>
  <dc:description/>
  <dc:language>en-US</dc:language>
  <cp:lastModifiedBy>Zahid Rahman</cp:lastModifiedBy>
  <dcterms:modified xsi:type="dcterms:W3CDTF">2004-09-12T02:30:08Z</dcterms:modified>
  <cp:revision>19</cp:revision>
  <dc:subject/>
  <dc:title>Slide 1</dc:title>
</cp:coreProperties>
</file>